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CB5-25FD-4CA9-9BE9-6C03EC4A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E36-76FC-426C-8649-84F1E457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0BD-6D16-46B0-BD6D-B2F159A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733-7039-42F6-86EE-B2662D85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B81-AACD-4597-94BF-03F72FD8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9B4-FD9C-4455-BF96-74C8A75D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8CB-720B-4204-8DF9-9142F34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306-00A6-4765-9BEF-80BD768A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126-C22F-48C3-9E1D-B17DDFFA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5A0-9DE8-4338-898B-D908DB6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4B3-2C74-4C3B-83B7-63BE8E9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337-AFEB-489B-9D54-34F9ECF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0B3-AD00-49BE-B068-58D1EEF50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acsu.buffalo.edu/~mdbanas/theodore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aac.gsfc.nasa.gov/oceancolor/images/central_america_topo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Panama_Canal_Rough_Diagram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3:  New American 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87520" y="565200"/>
            <a:ext cx="7143840" cy="360"/>
            <a:chOff x="1487520" y="565200"/>
            <a:chExt cx="7143840" cy="360"/>
          </a:xfrm>
        </p:grpSpPr>
        <p:sp>
          <p:nvSpPr>
            <p:cNvPr id="79" name=""/>
            <p:cNvSpPr/>
            <p:nvPr/>
          </p:nvSpPr>
          <p:spPr>
            <a:xfrm>
              <a:off x="1487520" y="56520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7520" y="56520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The Panama Canal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00080" y="716040"/>
            <a:ext cx="7143840" cy="360"/>
            <a:chOff x="1000080" y="716040"/>
            <a:chExt cx="7143840" cy="360"/>
          </a:xfrm>
        </p:grpSpPr>
        <p:sp>
          <p:nvSpPr>
            <p:cNvPr id="83" name=""/>
            <p:cNvSpPr/>
            <p:nvPr/>
          </p:nvSpPr>
          <p:spPr>
            <a:xfrm>
              <a:off x="1000080" y="71604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080" y="71604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0" y="716040"/>
            <a:ext cx="9144000" cy="5425920"/>
            <a:chOff x="0" y="716040"/>
            <a:chExt cx="9144000" cy="5425920"/>
          </a:xfrm>
        </p:grpSpPr>
        <p:sp>
          <p:nvSpPr>
            <p:cNvPr id="86" name=""/>
            <p:cNvSpPr/>
            <p:nvPr/>
          </p:nvSpPr>
          <p:spPr>
            <a:xfrm>
              <a:off x="0" y="716040"/>
              <a:ext cx="9144000" cy="5425920"/>
            </a:xfrm>
            <a:prstGeom prst="rect">
              <a:avLst/>
            </a:prstGeom>
            <a:solidFill>
              <a:srgbClr val="a5a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716040"/>
              <a:ext cx="9144000" cy="5425920"/>
            </a:xfrm>
            <a:prstGeom prst="rect">
              <a:avLst/>
            </a:prstGeom>
            <a:solidFill>
              <a:srgbClr val="a5a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20960" y="762120"/>
            <a:ext cx="43783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sevelt Corollary to the Monroe Doct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o act as an “international pol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stop European powers from using the debt problems of LA to justify intervening in th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D. = European countries will not intervene in affairs of Latin America and vice-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11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ak softly and carry a big stick, and you will go far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llar 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. Taft’s policy of helping LA countries by encouraging Amer.businesses develop industries in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increase income in both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that countries have with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as great new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wants to trade w/China = Open Door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er Rebellion – revolt by Chinese rebels wanting foreigners out of thei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000" y="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Episode image for The Boxer Rebellion"/>
          <p:cNvPicPr/>
          <p:nvPr/>
        </p:nvPicPr>
        <p:blipFill>
          <a:blip r:embed="rId2"/>
          <a:stretch/>
        </p:blipFill>
        <p:spPr>
          <a:xfrm>
            <a:off x="4246560" y="2286000"/>
            <a:ext cx="4897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1219320" y="1143000"/>
            <a:ext cx="2884320" cy="318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50344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00664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 Teddy Roosevelt and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 &amp; Russia fight over Ko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negotiates peac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s him Nobel Peace Prize 19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builds “The Great White Fle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Japan follow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572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Hay-Pauncefote Trea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as exclusive rights to build canal in Central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Panama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ime, fuel, and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nd militar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 or Pan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errain but very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narrow but very mountai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France had already begun in Pan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648320" cy="339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entral  America&#13;&#10;topographic map based on Shuttle Radar Topography Mission Da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Panama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Panama controlled by Colu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 supports rebellion of Panama against Columbia = sends in the Great White Fl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ama gains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457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ama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04-191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8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d Columbia $25 million for it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with Latin America wor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676520"/>
            <a:ext cx="44575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2-10T20:45:22Z</dcterms:modified>
  <cp:revision>7</cp:revision>
  <dc:subject/>
  <dc:title>PowerPoint Presentation</dc:title>
</cp:coreProperties>
</file>